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33.gif" ContentType="image/gif"/>
  <Override PartName="/ppt/media/image23.gif" ContentType="image/gif"/>
  <Override PartName="/ppt/media/image16.png" ContentType="image/png"/>
  <Override PartName="/ppt/media/image25.png" ContentType="image/png"/>
  <Override PartName="/ppt/media/image2.gif" ContentType="image/gif"/>
  <Override PartName="/ppt/media/image32.gif" ContentType="image/gif"/>
  <Override PartName="/ppt/media/image22.gif" ContentType="image/gif"/>
  <Override PartName="/ppt/media/image15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8.gif" ContentType="image/gif"/>
  <Override PartName="/ppt/media/image9.png" ContentType="image/png"/>
  <Override PartName="/ppt/media/image12.gif" ContentType="image/gif"/>
  <Override PartName="/ppt/media/image13.gif" ContentType="image/gif"/>
  <Override PartName="/ppt/media/image37.gif" ContentType="image/gif"/>
  <Override PartName="/ppt/media/image42.png" ContentType="image/png"/>
  <Override PartName="/ppt/media/image38.gif" ContentType="image/gif"/>
  <Override PartName="/ppt/media/image43.png" ContentType="image/png"/>
  <Override PartName="/ppt/media/image40.gif" ContentType="image/gif"/>
  <Override PartName="/ppt/media/image30.png" ContentType="image/png"/>
  <Override PartName="/ppt/media/image5.png" ContentType="image/png"/>
  <Override PartName="/ppt/media/image39.gif" ContentType="image/gif"/>
  <Override PartName="/ppt/media/image44.png" ContentType="image/png"/>
  <Override PartName="/ppt/media/image31.png" ContentType="image/png"/>
  <Override PartName="/ppt/media/image6.png" ContentType="image/png"/>
  <Override PartName="/ppt/media/image45.gif" ContentType="image/gif"/>
  <Override PartName="/ppt/media/image8.png" ContentType="image/png"/>
  <Override PartName="/ppt/media/image41.gif" ContentType="image/gif"/>
  <Override PartName="/ppt/media/image4.png" ContentType="image/png"/>
  <Override PartName="/ppt/media/image27.png" ContentType="image/png"/>
  <Override PartName="/ppt/media/image34.gif" ContentType="image/gif"/>
  <Override PartName="/ppt/media/image7.png" ContentType="image/png"/>
  <Override PartName="/ppt/media/image29.png" ContentType="image/png"/>
  <Override PartName="/ppt/media/image36.gif" ContentType="image/gif"/>
  <Override PartName="/ppt/media/image11.png" ContentType="image/png"/>
  <Override PartName="/ppt/media/image28.png" ContentType="image/png"/>
  <Override PartName="/ppt/media/image35.gif" ContentType="image/gif"/>
  <Override PartName="/ppt/media/image1.jpeg" ContentType="image/jpeg"/>
  <Override PartName="/ppt/media/image10.png" ContentType="image/png"/>
  <Override PartName="/ppt/media/image1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AB9-2683-4136-B8AF-E7E367B9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66C-D997-49FB-A9D6-0B8A9E04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1C5D61-108A-490C-81C8-E446A38B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DEBBC0-7492-4E04-93A6-B91FBFBF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8EF15F-8F4C-4A2C-86A5-2DB2CB4D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63FF50-07E7-438C-900C-55F42446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DEAF3A-7A40-483A-8803-8A565E6B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0C3D80-4175-4C42-96FA-29160B0F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6D71D6-ADB8-477B-8FC0-73FE3718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AE95E1-D524-4DA6-AA52-F1EF0B0F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F69820-D5E8-4FF8-83FE-AA4783B6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4A4A8F-7C2F-46EA-A974-67D5582B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5F5-66E4-457C-9241-45D9AEE6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564CD3-C590-4E0E-A48A-4B4E6CDA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764DB3-16D2-4946-8619-7A7BE8C4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084A7F-4AA5-47CC-822C-D4DBD38E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55905F-DB85-482C-9854-4DA73FD5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8FE743-2B51-43D2-8724-0733BCA1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1A5C28-F290-4734-B036-622643D4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D34A4C-B01A-441B-9773-FFD3A7EE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C9FCD4-BE57-43D7-A814-1A9FED74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1D1FC8-7CB9-457B-996D-D984E6C8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7BA353-FD39-45F2-99B6-5C08F9E6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656-7CAD-4EBE-9417-358EBB4E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54B3D1-0D69-4C6F-A36D-3BD96B05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DEE33-4E09-4544-92B6-50E4BEB7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43AC4-072E-4E28-AF15-9CA12356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DF765-8296-4670-BE40-48360E6F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79B44-F0CC-4593-8E26-F0093E32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CF93D-17A4-4729-838B-D4CE5A2D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C263E-AF2B-4579-8EA7-8FEF922D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B98C4-D748-4D26-92A7-01EA5D51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87FA4-65C0-4DBB-9486-74C1BBC9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E4BB5-4535-4D19-BF6D-356206AD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F8B77-61FF-4360-9EE6-65A92009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140D6-B489-45B0-ADF5-2E9097AB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AC0D8-032E-443D-AB1E-AAFEC059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C893A-9DD7-42B4-83CA-135D358A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AE01F-45CB-4550-9345-7E97D3A8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8F1A1-3D2A-4582-846D-22FEAA34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52F8C-466F-4F60-AE76-916AEA25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68C69-C75E-4B79-953F-CEEA3172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1AC6C-1974-4008-81B9-B39869A6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D9484-8AA3-4612-87DF-5604A56D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2F309-7254-45FE-9FA1-D59C8B03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BC03F-8D80-4170-967F-996424D7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60CB7-672A-4417-8357-A275B66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0AFBD-C38B-429E-90EF-54EC3E73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0AE1D-455E-4362-807C-458BF88D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E4F1F-7EDB-4603-ADC4-AD8EC045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DB3DF-9F26-4584-B205-0D063FE0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DBE24-E79D-4EA0-835A-B5895C7D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72B48-D1AA-41F0-BE44-4C215688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0D408-C714-4E5E-84C8-C475D119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1DB54-99C9-41D8-AC0D-5761CBE0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40C86-2384-4CD5-AE42-641BA1DD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C9F-A191-4D05-B8E3-3E1653BE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4E44C-16C9-43E1-B32D-B196DE3D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84228-9B4A-43E4-9BEB-7B531D2A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69740-A001-48A5-AD77-2E3F41C4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6D31E-7997-4AEA-BF90-BB2DA6FA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1674C-03BE-47B7-81AD-6CD6C4FD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0214E-1B8E-4EFB-AEB8-D514F9AC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3BDF0-D267-4061-AA02-C9C904FD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B4DC4-E149-4630-B030-5E8775F7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71AB1-67C4-45D9-8EE2-6547E731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8B76B-C8FB-4958-B9E2-BDA396B5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448-B964-4ED0-87FB-B8EC7F4A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7BDAD-6D17-4DD2-85F4-7CB97B03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241B8-B868-474F-9289-18E04B16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9E9B8-DDC9-4D34-8FAC-C963B7CB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BE657-9CAF-4910-8D85-F2BB71CD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A9FA9-78A4-4804-AC2C-963D2251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0537C-5103-40CF-B8F8-C2C83713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C93A3-DDFF-4433-AB05-1B9A3D1B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AABC-7671-4341-9344-D33D8AB7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7A459-512F-4D3B-901A-AA15B226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FDA09-407A-401D-8817-E8F40DCE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A8D-7B28-4D4F-87EC-C12D12AA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3094-2F68-49D4-8E1A-A0D95FBF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93BA5-E1F3-4F5F-A343-18EB3A0B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4D980-D98B-45B7-8198-29230C32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04232-0D5B-4B5F-BE0B-DA82D147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79576-8361-4954-9142-414DE0D4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25206-4276-4176-81B5-38A1AB3D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9F59-CCF8-4CF0-9417-8BA4B51B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21DF7-1A0C-4257-B68A-C08B73E6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90D59-75BE-4799-B0D7-E74D1DEF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D1F41-4C86-4842-83AC-2C41D0F7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E49-9B89-4AF4-B9C0-B362C39E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67880-3A3A-4E08-94CE-E502588B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45611-E6A7-47D5-98E1-E4B793B5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66F0D-ACD3-4BDA-8689-B1396663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C84D9-F004-40B1-A6F7-7BFFF643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CAC8E-32EC-4E46-BC99-81A686FA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4E82C-7F6E-4F3C-B67F-A7665B01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929EC-ECCB-4EE7-991C-FFBE8C66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60BA7-B471-45EB-A3A5-F7991662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73B5C-07C7-4D31-BDFB-E17BD7B1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5ECC8-5A44-4D2D-A3DA-0000BDFB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DFB-464E-4BB1-A758-FC70B551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0D158-6315-4125-AB30-2CA721CE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558050-44D5-4979-B9E1-482C4E84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5B497B-1827-494F-AA8D-D04CE514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3EFAC6-AB80-48B3-844E-E44B575C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EC2AAF-1D5A-41B2-B52F-345B0666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E5AB1D-DDA3-4173-BA2D-0C1DAFE2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1FFA2E-C2E4-4EA1-AC85-7ECB533E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3379E3-BE5B-4774-8A51-A5D3A476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5D478-4153-4146-8364-EDB4E7FB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C05ACC-AA6B-4468-A0E2-83C2E8F0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5C6-2415-42FD-9954-0E99B6B2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CD7BD6-2C0A-4C4B-B4A3-2DE07974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315DC6-933E-4115-B6A7-A0C05E70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443B12-2276-46C5-94DF-A73E980E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5021A-33E8-430D-B887-79FBD555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A70BC-6AAE-4DFC-8E41-D6D97253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9352A-0074-44EB-9705-0EF154A5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C178C-CB38-4C17-9522-5699D5DD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7380E-3135-4A65-A58E-55CC15CD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9A7CC-4B5C-47E4-A087-DBE20444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35661-685A-4C15-BBF7-A785A940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6AD-9F45-44E0-A3DD-7B6D7990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ABF71-1C35-4AD2-BA47-724B69CD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3C277-191A-4D4E-84DC-2019F5D9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6545F-D469-4A67-8D7A-0DDBB176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78DE0-AD45-4D5A-99B4-B8FDBDFF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A2824-A108-4EC7-9963-CECA202D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614E7-B2A2-4851-8FF3-27197190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F06F1-CE4B-49EB-9297-9EFBBFED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768BF-613F-4767-9C56-80EFEF2B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6F51C-BF3B-46F5-8FBD-D3BE615A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A24EA-F320-492C-B68F-82E01C6A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295-65EB-46FB-BA03-B34E559A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808A6-00F5-4E82-8402-78774EB3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4F5BA-85D9-4B49-8B0A-7287185E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F0726-B96E-4EE6-A684-3CBAD987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205BC-9B2F-433A-9B48-D45E546B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0DF59-74D6-40A6-9378-D85B8BC8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BEFCD-83FA-409A-805E-A296F0FE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A8768-F47C-4AB3-BEF9-E34D43F9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6B7A12-88D5-42D5-801D-69FBD018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45A913-FB99-4ED3-A3E1-5B19F063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A47BA5-2944-4539-9E6D-547427DF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014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5695A0-3B89-4C46-A78C-33BEF7F256E6}" type="slidenum">
              <a:rPr b="0" lang="ru-RU" sz="1600" spc="-1" strike="noStrike">
                <a:solidFill>
                  <a:srgbClr val="def5f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014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75ADE8-610C-40A7-9448-7E26CC01680E}" type="slidenum">
              <a:rPr b="0" lang="ru-RU" sz="1600" spc="-1" strike="noStrike">
                <a:solidFill>
                  <a:srgbClr val="def5f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3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014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FAB336-A5BE-46F1-AB00-533F32A6BD72}" type="slidenum">
              <a:rPr b="0" lang="ru-RU" sz="1600" spc="-1" strike="noStrike">
                <a:solidFill>
                  <a:srgbClr val="def5f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014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AA1202-B8E3-4E13-996F-B357E0BBA8B7}" type="slidenum">
              <a:rPr b="0" lang="ru-RU" sz="1600" spc="-1" strike="noStrike">
                <a:solidFill>
                  <a:srgbClr val="def5f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da1f28"/>
          </a:solidFill>
          <a:ln w="38160">
            <a:solidFill>
              <a:srgbClr val="da1f28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014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F18540-01C6-4931-BD3A-ECD3AE08DBB8}" type="slidenum">
              <a:rPr b="0" lang="ru-RU" sz="1600" spc="-1" strike="noStrike">
                <a:solidFill>
                  <a:srgbClr val="def5f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014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55FF55-A467-4237-B7BF-D9265BAF4954}" type="slidenum">
              <a:rPr b="0" lang="ru-RU" sz="1600" spc="-1" strike="noStrike">
                <a:solidFill>
                  <a:srgbClr val="def5f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014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F7C65A-32FC-4B8C-B3FD-46BCFD0B282D}" type="slidenum">
              <a:rPr b="0" lang="ru-RU" sz="1600" spc="-1" strike="noStrike">
                <a:solidFill>
                  <a:srgbClr val="def5f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014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AEE1D1-0200-404C-AF30-AA41180D77AF}" type="slidenum">
              <a:rPr b="0" lang="ru-RU" sz="1600" spc="-1" strike="noStrike">
                <a:solidFill>
                  <a:srgbClr val="def5f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014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2E069C-A1DD-4D66-B7A4-31C3B6EDF5C4}" type="slidenum">
              <a:rPr b="0" lang="ru-RU" sz="1600" spc="-1" strike="noStrike">
                <a:solidFill>
                  <a:srgbClr val="def5f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dt" idx="1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014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1ED9C0-E017-4BCF-BDEE-F4CA3818FFFE}" type="slidenum">
              <a:rPr b="0" lang="ru-RU" sz="1600" spc="-1" strike="noStrike">
                <a:solidFill>
                  <a:srgbClr val="def5f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014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116621-19BC-4B02-A54A-B26FEF550C9A}" type="slidenum">
              <a:rPr b="0" lang="ru-RU" sz="1600" spc="-1" strike="noStrike">
                <a:solidFill>
                  <a:srgbClr val="def5f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014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01a2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C232A6-3158-4BF5-A69E-4C814B6EE59A}" type="slidenum">
              <a:rPr b="0" lang="ru-RU" sz="1600" spc="-1" strike="noStrike">
                <a:solidFill>
                  <a:srgbClr val="def5f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2.gif"/><Relationship Id="rId28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WordArt 1"/>
          <p:cNvSpPr txBox="1"/>
          <p:nvPr/>
        </p:nvSpPr>
        <p:spPr>
          <a:xfrm rot="4020000">
            <a:off x="441000" y="4970160"/>
            <a:ext cx="90180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9" name="WordArt 2"/>
          <p:cNvSpPr txBox="1"/>
          <p:nvPr/>
        </p:nvSpPr>
        <p:spPr>
          <a:xfrm rot="6060000">
            <a:off x="1584000" y="4970160"/>
            <a:ext cx="90180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WordArt 3"/>
          <p:cNvSpPr txBox="1"/>
          <p:nvPr/>
        </p:nvSpPr>
        <p:spPr>
          <a:xfrm rot="4140000">
            <a:off x="4172760" y="4132440"/>
            <a:ext cx="90180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WordArt 4"/>
          <p:cNvSpPr txBox="1"/>
          <p:nvPr/>
        </p:nvSpPr>
        <p:spPr>
          <a:xfrm rot="5040000">
            <a:off x="2572920" y="4511520"/>
            <a:ext cx="90180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04" name="WordArt 7"/>
          <p:cNvSpPr txBox="1"/>
          <p:nvPr/>
        </p:nvSpPr>
        <p:spPr>
          <a:xfrm rot="20040000">
            <a:off x="379080" y="3733560"/>
            <a:ext cx="57636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990720" y="3048120"/>
            <a:ext cx="57600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6" name="WordArt 9"/>
          <p:cNvSpPr txBox="1"/>
          <p:nvPr/>
        </p:nvSpPr>
        <p:spPr>
          <a:xfrm rot="20400000">
            <a:off x="1752120" y="3354120"/>
            <a:ext cx="57636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7" name="WordArt 10"/>
          <p:cNvSpPr txBox="1"/>
          <p:nvPr/>
        </p:nvSpPr>
        <p:spPr>
          <a:xfrm rot="20700000">
            <a:off x="2362320" y="2742840"/>
            <a:ext cx="57600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8" name="WordArt 11"/>
          <p:cNvSpPr txBox="1"/>
          <p:nvPr/>
        </p:nvSpPr>
        <p:spPr>
          <a:xfrm>
            <a:off x="3048120" y="2362320"/>
            <a:ext cx="57600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ь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WordArt 12"/>
          <p:cNvSpPr txBox="1"/>
          <p:nvPr/>
        </p:nvSpPr>
        <p:spPr>
          <a:xfrm rot="1560000">
            <a:off x="3886200" y="2436840"/>
            <a:ext cx="57636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0" name="WordArt 13"/>
          <p:cNvSpPr txBox="1"/>
          <p:nvPr/>
        </p:nvSpPr>
        <p:spPr>
          <a:xfrm>
            <a:off x="4724280" y="2133720"/>
            <a:ext cx="57636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1" name="WordArt 14"/>
          <p:cNvSpPr txBox="1"/>
          <p:nvPr/>
        </p:nvSpPr>
        <p:spPr>
          <a:xfrm rot="20520000">
            <a:off x="5484960" y="1982520"/>
            <a:ext cx="57600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2" name="WordArt 15"/>
          <p:cNvSpPr txBox="1"/>
          <p:nvPr/>
        </p:nvSpPr>
        <p:spPr>
          <a:xfrm>
            <a:off x="6781680" y="1523880"/>
            <a:ext cx="57636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3" name="WordArt 16"/>
          <p:cNvSpPr txBox="1"/>
          <p:nvPr/>
        </p:nvSpPr>
        <p:spPr>
          <a:xfrm rot="1080000">
            <a:off x="7621200" y="1217520"/>
            <a:ext cx="57636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4" name="WordArt 17"/>
          <p:cNvSpPr txBox="1"/>
          <p:nvPr/>
        </p:nvSpPr>
        <p:spPr>
          <a:xfrm>
            <a:off x="8381880" y="990720"/>
            <a:ext cx="57636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WordArt 18"/>
          <p:cNvSpPr txBox="1"/>
          <p:nvPr/>
        </p:nvSpPr>
        <p:spPr>
          <a:xfrm rot="19380000">
            <a:off x="5941800" y="1372680"/>
            <a:ext cx="57600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WordArt 19"/>
          <p:cNvSpPr txBox="1"/>
          <p:nvPr/>
        </p:nvSpPr>
        <p:spPr>
          <a:xfrm rot="6480000">
            <a:off x="3564000" y="4743000"/>
            <a:ext cx="9014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7" name="WordArt 20"/>
          <p:cNvSpPr txBox="1"/>
          <p:nvPr/>
        </p:nvSpPr>
        <p:spPr>
          <a:xfrm rot="6420000">
            <a:off x="5011200" y="3903480"/>
            <a:ext cx="90180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8" name="WordArt 21"/>
          <p:cNvSpPr txBox="1"/>
          <p:nvPr/>
        </p:nvSpPr>
        <p:spPr>
          <a:xfrm rot="5040000">
            <a:off x="5775480" y="3444480"/>
            <a:ext cx="9014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WordArt 22"/>
          <p:cNvSpPr txBox="1"/>
          <p:nvPr/>
        </p:nvSpPr>
        <p:spPr>
          <a:xfrm rot="6960000">
            <a:off x="6687360" y="2989080"/>
            <a:ext cx="90180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0" name="WordArt 23"/>
          <p:cNvSpPr txBox="1"/>
          <p:nvPr/>
        </p:nvSpPr>
        <p:spPr>
          <a:xfrm rot="5400000">
            <a:off x="7832520" y="2760480"/>
            <a:ext cx="90180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1" name="Picture 24" descr=""/>
          <p:cNvPicPr/>
          <p:nvPr/>
        </p:nvPicPr>
        <p:blipFill>
          <a:blip r:embed="rId27"/>
          <a:stretch/>
        </p:blipFill>
        <p:spPr>
          <a:xfrm>
            <a:off x="5867280" y="480060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25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1"/>
          <p:cNvGrpSpPr/>
          <p:nvPr/>
        </p:nvGrpSpPr>
        <p:grpSpPr>
          <a:xfrm>
            <a:off x="304920" y="1523880"/>
            <a:ext cx="8532720" cy="3386160"/>
            <a:chOff x="304920" y="1523880"/>
            <a:chExt cx="8532720" cy="3386160"/>
          </a:xfrm>
        </p:grpSpPr>
        <p:pic>
          <p:nvPicPr>
            <p:cNvPr id="559" name="Picture 2" descr=""/>
            <p:cNvPicPr/>
            <p:nvPr/>
          </p:nvPicPr>
          <p:blipFill>
            <a:blip r:embed="rId1"/>
            <a:stretch/>
          </p:blipFill>
          <p:spPr>
            <a:xfrm>
              <a:off x="304920" y="1523880"/>
              <a:ext cx="8532720" cy="33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3"/>
            <p:cNvSpPr/>
            <p:nvPr/>
          </p:nvSpPr>
          <p:spPr>
            <a:xfrm>
              <a:off x="304920" y="1523880"/>
              <a:ext cx="8532720" cy="33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1" name="Rectangle 4"/>
          <p:cNvSpPr/>
          <p:nvPr/>
        </p:nvSpPr>
        <p:spPr>
          <a:xfrm>
            <a:off x="2514600" y="52578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Castellar"/>
                <a:ea typeface="DejaVu Sans"/>
              </a:rPr>
              <a:t>клавиатур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1"/>
          <p:cNvGrpSpPr/>
          <p:nvPr/>
        </p:nvGrpSpPr>
        <p:grpSpPr>
          <a:xfrm>
            <a:off x="304920" y="1143000"/>
            <a:ext cx="8609040" cy="3492360"/>
            <a:chOff x="304920" y="1143000"/>
            <a:chExt cx="8609040" cy="3492360"/>
          </a:xfrm>
        </p:grpSpPr>
        <p:pic>
          <p:nvPicPr>
            <p:cNvPr id="563" name="Picture 2" descr=""/>
            <p:cNvPicPr/>
            <p:nvPr/>
          </p:nvPicPr>
          <p:blipFill>
            <a:blip r:embed="rId1"/>
            <a:stretch/>
          </p:blipFill>
          <p:spPr>
            <a:xfrm>
              <a:off x="304920" y="1143000"/>
              <a:ext cx="8609040" cy="34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3"/>
            <p:cNvSpPr/>
            <p:nvPr/>
          </p:nvSpPr>
          <p:spPr>
            <a:xfrm>
              <a:off x="304920" y="1143000"/>
              <a:ext cx="860904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5" name="Rectangle 4"/>
          <p:cNvSpPr/>
          <p:nvPr/>
        </p:nvSpPr>
        <p:spPr>
          <a:xfrm>
            <a:off x="2514600" y="52578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Castellar"/>
                <a:ea typeface="DejaVu Sans"/>
              </a:rPr>
              <a:t>программис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1"/>
          <p:cNvGrpSpPr/>
          <p:nvPr/>
        </p:nvGrpSpPr>
        <p:grpSpPr>
          <a:xfrm>
            <a:off x="2057400" y="1447920"/>
            <a:ext cx="6270480" cy="1960560"/>
            <a:chOff x="2057400" y="1447920"/>
            <a:chExt cx="6270480" cy="1960560"/>
          </a:xfrm>
        </p:grpSpPr>
        <p:pic>
          <p:nvPicPr>
            <p:cNvPr id="567" name="Picture 2" descr=""/>
            <p:cNvPicPr/>
            <p:nvPr/>
          </p:nvPicPr>
          <p:blipFill>
            <a:blip r:embed="rId1"/>
            <a:stretch/>
          </p:blipFill>
          <p:spPr>
            <a:xfrm>
              <a:off x="2057400" y="1447920"/>
              <a:ext cx="6270480" cy="19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3"/>
            <p:cNvSpPr/>
            <p:nvPr/>
          </p:nvSpPr>
          <p:spPr>
            <a:xfrm>
              <a:off x="2057400" y="1447920"/>
              <a:ext cx="62704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9" name="Text Box 4"/>
          <p:cNvSpPr/>
          <p:nvPr/>
        </p:nvSpPr>
        <p:spPr>
          <a:xfrm>
            <a:off x="2494800" y="4343400"/>
            <a:ext cx="52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Castellar"/>
                <a:ea typeface="DejaVu Sans"/>
              </a:rPr>
              <a:t>информатик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1"/>
          <p:cNvGrpSpPr/>
          <p:nvPr/>
        </p:nvGrpSpPr>
        <p:grpSpPr>
          <a:xfrm>
            <a:off x="457200" y="1676520"/>
            <a:ext cx="8380440" cy="2009520"/>
            <a:chOff x="457200" y="1676520"/>
            <a:chExt cx="8380440" cy="2009520"/>
          </a:xfrm>
        </p:grpSpPr>
        <p:pic>
          <p:nvPicPr>
            <p:cNvPr id="571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1676520"/>
              <a:ext cx="838044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 Box 3"/>
            <p:cNvSpPr/>
            <p:nvPr/>
          </p:nvSpPr>
          <p:spPr>
            <a:xfrm>
              <a:off x="457200" y="1676520"/>
              <a:ext cx="8380440" cy="20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3" name="Rectangle 4"/>
          <p:cNvSpPr/>
          <p:nvPr/>
        </p:nvSpPr>
        <p:spPr>
          <a:xfrm>
            <a:off x="2590920" y="4648320"/>
            <a:ext cx="4572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Castellar"/>
                <a:ea typeface="DejaVu Sans"/>
              </a:rPr>
              <a:t>информатик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1"/>
          <p:cNvGrpSpPr/>
          <p:nvPr/>
        </p:nvGrpSpPr>
        <p:grpSpPr>
          <a:xfrm>
            <a:off x="304920" y="990720"/>
            <a:ext cx="8609040" cy="3267000"/>
            <a:chOff x="304920" y="990720"/>
            <a:chExt cx="8609040" cy="3267000"/>
          </a:xfrm>
        </p:grpSpPr>
        <p:pic>
          <p:nvPicPr>
            <p:cNvPr id="575" name="Picture 2" descr=""/>
            <p:cNvPicPr/>
            <p:nvPr/>
          </p:nvPicPr>
          <p:blipFill>
            <a:blip r:embed="rId1"/>
            <a:stretch/>
          </p:blipFill>
          <p:spPr>
            <a:xfrm>
              <a:off x="304920" y="990720"/>
              <a:ext cx="860904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 Box 3"/>
            <p:cNvSpPr/>
            <p:nvPr/>
          </p:nvSpPr>
          <p:spPr>
            <a:xfrm>
              <a:off x="304920" y="990720"/>
              <a:ext cx="8609040" cy="32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7" name="Rectangle 4"/>
          <p:cNvSpPr/>
          <p:nvPr/>
        </p:nvSpPr>
        <p:spPr>
          <a:xfrm>
            <a:off x="2514600" y="48006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Castellar"/>
                <a:ea typeface="DejaVu Sans"/>
              </a:rPr>
              <a:t>винчестер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1"/>
          <p:cNvGrpSpPr/>
          <p:nvPr/>
        </p:nvGrpSpPr>
        <p:grpSpPr>
          <a:xfrm>
            <a:off x="609480" y="914400"/>
            <a:ext cx="7999560" cy="3884760"/>
            <a:chOff x="609480" y="914400"/>
            <a:chExt cx="7999560" cy="3884760"/>
          </a:xfrm>
        </p:grpSpPr>
        <p:pic>
          <p:nvPicPr>
            <p:cNvPr id="579" name="Picture 2" descr=""/>
            <p:cNvPicPr/>
            <p:nvPr/>
          </p:nvPicPr>
          <p:blipFill>
            <a:blip r:embed="rId1"/>
            <a:stretch/>
          </p:blipFill>
          <p:spPr>
            <a:xfrm>
              <a:off x="609480" y="914400"/>
              <a:ext cx="7999560" cy="388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"/>
            <p:cNvSpPr/>
            <p:nvPr/>
          </p:nvSpPr>
          <p:spPr>
            <a:xfrm>
              <a:off x="609480" y="914400"/>
              <a:ext cx="7999560" cy="38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1" name="Rectangle 4"/>
          <p:cNvSpPr/>
          <p:nvPr/>
        </p:nvSpPr>
        <p:spPr>
          <a:xfrm>
            <a:off x="2514600" y="5105520"/>
            <a:ext cx="4572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Castellar"/>
                <a:ea typeface="DejaVu Sans"/>
              </a:rPr>
              <a:t>курсор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1"/>
          <p:cNvGrpSpPr/>
          <p:nvPr/>
        </p:nvGrpSpPr>
        <p:grpSpPr>
          <a:xfrm>
            <a:off x="1447920" y="1066680"/>
            <a:ext cx="7466040" cy="4067280"/>
            <a:chOff x="1447920" y="1066680"/>
            <a:chExt cx="7466040" cy="4067280"/>
          </a:xfrm>
        </p:grpSpPr>
        <p:pic>
          <p:nvPicPr>
            <p:cNvPr id="583" name="Picture 2" descr=""/>
            <p:cNvPicPr/>
            <p:nvPr/>
          </p:nvPicPr>
          <p:blipFill>
            <a:blip r:embed="rId1"/>
            <a:stretch/>
          </p:blipFill>
          <p:spPr>
            <a:xfrm>
              <a:off x="1447920" y="1066680"/>
              <a:ext cx="74660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3"/>
            <p:cNvSpPr/>
            <p:nvPr/>
          </p:nvSpPr>
          <p:spPr>
            <a:xfrm>
              <a:off x="1447920" y="1066680"/>
              <a:ext cx="7466040" cy="40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" name="Rectangle 4"/>
          <p:cNvSpPr/>
          <p:nvPr/>
        </p:nvSpPr>
        <p:spPr>
          <a:xfrm>
            <a:off x="2514600" y="45720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Castellar"/>
                <a:ea typeface="DejaVu Sans"/>
              </a:rPr>
              <a:t>модем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1"/>
          <p:cNvGrpSpPr/>
          <p:nvPr/>
        </p:nvGrpSpPr>
        <p:grpSpPr>
          <a:xfrm>
            <a:off x="533520" y="838080"/>
            <a:ext cx="8151840" cy="2960640"/>
            <a:chOff x="533520" y="838080"/>
            <a:chExt cx="8151840" cy="2960640"/>
          </a:xfrm>
        </p:grpSpPr>
        <p:pic>
          <p:nvPicPr>
            <p:cNvPr id="587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838080"/>
              <a:ext cx="81518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"/>
            <p:cNvSpPr/>
            <p:nvPr/>
          </p:nvSpPr>
          <p:spPr>
            <a:xfrm>
              <a:off x="533520" y="838080"/>
              <a:ext cx="8151840" cy="29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Rectangle 4"/>
          <p:cNvSpPr/>
          <p:nvPr/>
        </p:nvSpPr>
        <p:spPr>
          <a:xfrm>
            <a:off x="2590920" y="45720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Castellar"/>
                <a:ea typeface="DejaVu Sans"/>
              </a:rPr>
              <a:t>Интерне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Управляющая кнопка: домой 6"/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1"/>
          <p:cNvSpPr/>
          <p:nvPr/>
        </p:nvSpPr>
        <p:spPr>
          <a:xfrm>
            <a:off x="0" y="4648320"/>
            <a:ext cx="914400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Перед вами версии известных русских пословиц и поговорок, придуманные программистами. Попробуйте вспомнить, как звучат они в оригинале.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DejaVu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WordArt 2"/>
          <p:cNvSpPr txBox="1"/>
          <p:nvPr/>
        </p:nvSpPr>
        <p:spPr>
          <a:xfrm rot="20940000">
            <a:off x="456840" y="763200"/>
            <a:ext cx="7315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63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92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льклорный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92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3" name="WordArt 3"/>
          <p:cNvSpPr txBox="1"/>
          <p:nvPr/>
        </p:nvSpPr>
        <p:spPr>
          <a:xfrm rot="21180000">
            <a:off x="3276360" y="2744280"/>
            <a:ext cx="5324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656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6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рпанти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6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1"/>
          <p:cNvSpPr/>
          <p:nvPr/>
        </p:nvSpPr>
        <p:spPr>
          <a:xfrm>
            <a:off x="685800" y="395280"/>
            <a:ext cx="77724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Компьютер памятью не испортишь.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  <a:ea typeface="DejaVu San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Кашу маслом не испортиш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2971800" y="4419720"/>
            <a:ext cx="2819520" cy="22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24" name="WordArt 2"/>
          <p:cNvSpPr txBox="1"/>
          <p:nvPr/>
        </p:nvSpPr>
        <p:spPr>
          <a:xfrm>
            <a:off x="1219320" y="1219320"/>
            <a:ext cx="2305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ылаты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ов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1371600" y="4648320"/>
            <a:ext cx="2305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льклорны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рпанти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6" name="WordArt 2"/>
          <p:cNvSpPr txBox="1"/>
          <p:nvPr/>
        </p:nvSpPr>
        <p:spPr>
          <a:xfrm>
            <a:off x="5786280" y="4572000"/>
            <a:ext cx="2305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елый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узнечи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7" name="TextBox 10" descr=""/>
          <p:cNvPicPr/>
          <p:nvPr/>
        </p:nvPicPr>
        <p:blipFill>
          <a:blip r:embed="rId2"/>
          <a:stretch/>
        </p:blipFill>
        <p:spPr>
          <a:xfrm>
            <a:off x="281160" y="3121200"/>
            <a:ext cx="3346200" cy="744480"/>
          </a:xfrm>
          <a:prstGeom prst="rect">
            <a:avLst/>
          </a:prstGeom>
          <a:ln w="0">
            <a:noFill/>
          </a:ln>
        </p:spPr>
      </p:pic>
      <p:pic>
        <p:nvPicPr>
          <p:cNvPr id="528" name="TextBox 11" descr=""/>
          <p:cNvPicPr/>
          <p:nvPr/>
        </p:nvPicPr>
        <p:blipFill>
          <a:blip r:embed="rId3"/>
          <a:stretch/>
        </p:blipFill>
        <p:spPr>
          <a:xfrm>
            <a:off x="6181560" y="2901960"/>
            <a:ext cx="2791080" cy="1305000"/>
          </a:xfrm>
          <a:prstGeom prst="rect">
            <a:avLst/>
          </a:prstGeom>
          <a:ln w="0">
            <a:noFill/>
          </a:ln>
        </p:spPr>
      </p:pic>
      <p:pic>
        <p:nvPicPr>
          <p:cNvPr id="529" name="TextBox 9" descr=""/>
          <p:cNvPicPr/>
          <p:nvPr/>
        </p:nvPicPr>
        <p:blipFill>
          <a:blip r:embed="rId4"/>
          <a:stretch/>
        </p:blipFill>
        <p:spPr>
          <a:xfrm>
            <a:off x="5810400" y="1189080"/>
            <a:ext cx="3369960" cy="749160"/>
          </a:xfrm>
          <a:prstGeom prst="rect">
            <a:avLst/>
          </a:prstGeom>
          <a:ln w="0">
            <a:noFill/>
          </a:ln>
        </p:spPr>
      </p:pic>
      <p:pic>
        <p:nvPicPr>
          <p:cNvPr id="530" name="TextBox 12" descr=""/>
          <p:cNvPicPr/>
          <p:nvPr/>
        </p:nvPicPr>
        <p:blipFill>
          <a:blip r:embed="rId5"/>
          <a:stretch/>
        </p:blipFill>
        <p:spPr>
          <a:xfrm>
            <a:off x="3243240" y="2328840"/>
            <a:ext cx="3218040" cy="11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1"/>
          <p:cNvSpPr/>
          <p:nvPr/>
        </p:nvSpPr>
        <p:spPr>
          <a:xfrm>
            <a:off x="685800" y="1066680"/>
            <a:ext cx="8001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Дареному компьютеру в системный блок не заглядывают.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  <a:ea typeface="DejaVu San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Дареному коню в зубы не смотря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"/>
          <p:cNvSpPr/>
          <p:nvPr/>
        </p:nvSpPr>
        <p:spPr>
          <a:xfrm>
            <a:off x="685800" y="1766880"/>
            <a:ext cx="7772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Всякий кабель свое гнездо любит.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  <a:ea typeface="DejaVu San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Всякая птица свое гнездо люб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0" y="3429000"/>
            <a:ext cx="24447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1"/>
          <p:cNvSpPr/>
          <p:nvPr/>
        </p:nvSpPr>
        <p:spPr>
          <a:xfrm>
            <a:off x="685800" y="1766880"/>
            <a:ext cx="7772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Не все </a:t>
            </a:r>
            <a:r>
              <a:rPr b="1" lang="en-US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WINDOWS</a:t>
            </a:r>
            <a:r>
              <a:rPr b="1" lang="ru-RU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,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что висит.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  <a:ea typeface="DejaVu San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Не все золото, что блест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5" name="Picture 3" descr=""/>
          <p:cNvPicPr/>
          <p:nvPr/>
        </p:nvPicPr>
        <p:blipFill>
          <a:blip r:embed="rId1"/>
          <a:stretch/>
        </p:blipFill>
        <p:spPr>
          <a:xfrm>
            <a:off x="0" y="4584600"/>
            <a:ext cx="380988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1"/>
          <p:cNvSpPr/>
          <p:nvPr/>
        </p:nvSpPr>
        <p:spPr>
          <a:xfrm>
            <a:off x="685800" y="1766880"/>
            <a:ext cx="7772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Проводник до файла доведет.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  <a:ea typeface="DejaVu San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Язык до Киева довед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31240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1"/>
          <p:cNvSpPr/>
          <p:nvPr/>
        </p:nvSpPr>
        <p:spPr>
          <a:xfrm>
            <a:off x="304920" y="108000"/>
            <a:ext cx="8610480" cy="30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Не идентификатор красит файл, 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а файл — идентификатор.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  <a:ea typeface="DejaVu San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Не имя красит человека, а человек им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0" y="3429000"/>
            <a:ext cx="24447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1"/>
          <p:cNvSpPr/>
          <p:nvPr/>
        </p:nvSpPr>
        <p:spPr>
          <a:xfrm>
            <a:off x="685800" y="944640"/>
            <a:ext cx="77724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Что из Корзины удалено, то пропало.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  <a:ea typeface="DejaVu San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Что с возу упало, то пропал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4" name="Picture 3" descr=""/>
          <p:cNvPicPr/>
          <p:nvPr/>
        </p:nvPicPr>
        <p:blipFill>
          <a:blip r:embed="rId1"/>
          <a:stretch/>
        </p:blipFill>
        <p:spPr>
          <a:xfrm>
            <a:off x="3429000" y="4724280"/>
            <a:ext cx="2286000" cy="19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685800" y="944640"/>
            <a:ext cx="77724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Все скомпонуется — программа будет.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  <a:ea typeface="DejaVu San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990720" y="38862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Все перемелетс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—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мука буд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1"/>
          <a:stretch/>
        </p:blipFill>
        <p:spPr>
          <a:xfrm>
            <a:off x="0" y="42670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1"/>
          <p:cNvSpPr/>
          <p:nvPr/>
        </p:nvSpPr>
        <p:spPr>
          <a:xfrm>
            <a:off x="685800" y="120600"/>
            <a:ext cx="77724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С больной дискеты на здоровый винчестер.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  <a:ea typeface="DejaVu San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С больной головы на здорову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Picture 3" descr=""/>
          <p:cNvPicPr/>
          <p:nvPr/>
        </p:nvPicPr>
        <p:blipFill>
          <a:blip r:embed="rId1"/>
          <a:stretch/>
        </p:blipFill>
        <p:spPr>
          <a:xfrm>
            <a:off x="6248520" y="4462560"/>
            <a:ext cx="2895480" cy="23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1"/>
          <p:cNvSpPr/>
          <p:nvPr/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Антивирусная программа — залог здоровья компьютера.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  <a:ea typeface="DejaVu San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Чистот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—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залог здоровь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1"/>
          <a:stretch/>
        </p:blipFill>
        <p:spPr>
          <a:xfrm>
            <a:off x="3657600" y="4683240"/>
            <a:ext cx="2286000" cy="21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1"/>
          <p:cNvSpPr/>
          <p:nvPr/>
        </p:nvSpPr>
        <p:spPr>
          <a:xfrm>
            <a:off x="685800" y="1766880"/>
            <a:ext cx="7772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Всяк </a:t>
            </a:r>
            <a:r>
              <a:rPr b="0" lang="en-US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Web</a:t>
            </a:r>
            <a:r>
              <a:rPr b="0" lang="ru-RU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-дизайнер свой сайт хвалит.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  <a:ea typeface="DejaVu San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Всяк кулик свое болото хвал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0" y="44197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WordArt 1"/>
          <p:cNvSpPr txBox="1"/>
          <p:nvPr/>
        </p:nvSpPr>
        <p:spPr>
          <a:xfrm>
            <a:off x="285840" y="428760"/>
            <a:ext cx="5257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4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ылаты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40129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DejaVu Sans"/>
              </a:rPr>
              <a:t>Вам будут названы пословицы, поговорки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DejaVu Sans"/>
              </a:rPr>
              <a:t>цитаты из литературных произведений. Дл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DejaVu Sans"/>
              </a:rPr>
              <a:t>каждого из этих "крылатых слов" будут предложен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DejaVu Sans"/>
              </a:rPr>
              <a:t>3 понятия информатики. Выбрать наиболее подходяще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3214800" y="2214720"/>
            <a:ext cx="5257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07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ов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1"/>
          <p:cNvSpPr/>
          <p:nvPr/>
        </p:nvSpPr>
        <p:spPr>
          <a:xfrm>
            <a:off x="685800" y="1766880"/>
            <a:ext cx="7772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Вирусов бояться — в Интернет не ходить.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  <a:ea typeface="DejaVu San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Волков боятьс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—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в лес не ходи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"/>
          <p:cNvSpPr/>
          <p:nvPr/>
        </p:nvSpPr>
        <p:spPr>
          <a:xfrm>
            <a:off x="685800" y="944640"/>
            <a:ext cx="77724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empus Sans ITC"/>
                <a:ea typeface="DejaVu Sans"/>
              </a:rPr>
              <a:t>Винчестер — зеркало души пользователя.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  <a:ea typeface="DejaVu San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Глаза — зеркало душ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1"/>
          <a:stretch/>
        </p:blipFill>
        <p:spPr>
          <a:xfrm>
            <a:off x="0" y="3429000"/>
            <a:ext cx="2444760" cy="3429000"/>
          </a:xfrm>
          <a:prstGeom prst="rect">
            <a:avLst/>
          </a:prstGeom>
          <a:ln w="0">
            <a:noFill/>
          </a:ln>
        </p:spPr>
      </p:pic>
      <p:sp>
        <p:nvSpPr>
          <p:cNvPr id="633" name="Управляющая кнопка: домой 5"/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7689" y="3837"/>
                </a:moveTo>
                <a:lnTo>
                  <a:pt x="20265" y="6448"/>
                </a:lnTo>
                <a:lnTo>
                  <a:pt x="20265" y="4707"/>
                </a:lnTo>
                <a:lnTo>
                  <a:pt x="22041" y="4707"/>
                </a:lnTo>
                <a:lnTo>
                  <a:pt x="22041" y="8224"/>
                </a:lnTo>
                <a:lnTo>
                  <a:pt x="24652" y="10800"/>
                </a:lnTo>
                <a:lnTo>
                  <a:pt x="22998" y="10800"/>
                </a:lnTo>
                <a:lnTo>
                  <a:pt x="22998" y="17989"/>
                </a:lnTo>
                <a:lnTo>
                  <a:pt x="12380" y="17989"/>
                </a:lnTo>
                <a:lnTo>
                  <a:pt x="12380" y="10800"/>
                </a:lnTo>
                <a:lnTo>
                  <a:pt x="10726" y="10800"/>
                </a:lnTo>
                <a:close/>
              </a:path>
              <a:path fill="darkenLess" w="35378" h="21600">
                <a:moveTo>
                  <a:pt x="20265" y="6448"/>
                </a:moveTo>
                <a:lnTo>
                  <a:pt x="20265" y="4707"/>
                </a:lnTo>
                <a:lnTo>
                  <a:pt x="22041" y="4707"/>
                </a:lnTo>
                <a:lnTo>
                  <a:pt x="22041" y="8224"/>
                </a:lnTo>
                <a:close/>
              </a:path>
              <a:path fill="darkenLess" w="35378" h="21600">
                <a:moveTo>
                  <a:pt x="16766" y="14299"/>
                </a:moveTo>
                <a:lnTo>
                  <a:pt x="18611" y="14299"/>
                </a:lnTo>
                <a:lnTo>
                  <a:pt x="18611" y="17989"/>
                </a:lnTo>
                <a:lnTo>
                  <a:pt x="22998" y="17989"/>
                </a:lnTo>
                <a:lnTo>
                  <a:pt x="22998" y="10800"/>
                </a:lnTo>
                <a:lnTo>
                  <a:pt x="12380" y="10800"/>
                </a:lnTo>
                <a:lnTo>
                  <a:pt x="12380" y="17989"/>
                </a:lnTo>
                <a:lnTo>
                  <a:pt x="16766" y="1798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Прямоугольник 1" descr=""/>
          <p:cNvPicPr/>
          <p:nvPr/>
        </p:nvPicPr>
        <p:blipFill>
          <a:blip r:embed="rId1"/>
          <a:stretch/>
        </p:blipFill>
        <p:spPr>
          <a:xfrm>
            <a:off x="536400" y="73080"/>
            <a:ext cx="8004240" cy="1206360"/>
          </a:xfrm>
          <a:prstGeom prst="rect">
            <a:avLst/>
          </a:prstGeom>
          <a:ln w="0">
            <a:noFill/>
          </a:ln>
        </p:spPr>
      </p:pic>
      <p:sp>
        <p:nvSpPr>
          <p:cNvPr id="635" name="TextBox 3"/>
          <p:cNvSpPr/>
          <p:nvPr/>
        </p:nvSpPr>
        <p:spPr>
          <a:xfrm>
            <a:off x="395280" y="134136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Задание – в таблице необходимо найти слова, имеющ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отношение к компьютеру и объяснить их значени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304920" y="304920"/>
          <a:ext cx="8231040" cy="468612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3680"/>
                <a:gridCol w="824040"/>
                <a:gridCol w="822240"/>
                <a:gridCol w="824040"/>
                <a:gridCol w="822240"/>
                <a:gridCol w="824040"/>
                <a:gridCol w="822240"/>
              </a:tblGrid>
              <a:tr h="5205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Box 1"/>
          <p:cNvSpPr/>
          <p:nvPr/>
        </p:nvSpPr>
        <p:spPr>
          <a:xfrm>
            <a:off x="570240" y="1052640"/>
            <a:ext cx="898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DejaVu Sans"/>
              </a:rPr>
              <a:t>Зашифрованные слова: плата, кабель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DejaVu Sans"/>
              </a:rPr>
              <a:t>клавиатура, компьютер, монитор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DejaVu Sans"/>
              </a:rPr>
              <a:t>дискета, модем, мышь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DejaVu San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DejaVu Sans"/>
              </a:rPr>
              <a:t>процессор, сканер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DejaVu Sans"/>
              </a:rPr>
              <a:t>микросхема, дилер, утилит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Управляющая кнопка: домой 2"/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10800" y="3971"/>
                </a:moveTo>
                <a:lnTo>
                  <a:pt x="13376" y="6582"/>
                </a:lnTo>
                <a:lnTo>
                  <a:pt x="13376" y="4841"/>
                </a:lnTo>
                <a:lnTo>
                  <a:pt x="15152" y="4841"/>
                </a:lnTo>
                <a:lnTo>
                  <a:pt x="15152" y="8357"/>
                </a:lnTo>
                <a:lnTo>
                  <a:pt x="17763" y="10934"/>
                </a:lnTo>
                <a:lnTo>
                  <a:pt x="16109" y="10934"/>
                </a:lnTo>
                <a:lnTo>
                  <a:pt x="16109" y="18123"/>
                </a:lnTo>
                <a:lnTo>
                  <a:pt x="5491" y="18123"/>
                </a:lnTo>
                <a:lnTo>
                  <a:pt x="5491" y="10934"/>
                </a:lnTo>
                <a:lnTo>
                  <a:pt x="3837" y="10934"/>
                </a:lnTo>
                <a:close/>
              </a:path>
              <a:path fill="darkenLess" w="21600" h="21867">
                <a:moveTo>
                  <a:pt x="13376" y="6582"/>
                </a:moveTo>
                <a:lnTo>
                  <a:pt x="13376" y="4841"/>
                </a:lnTo>
                <a:lnTo>
                  <a:pt x="15152" y="4841"/>
                </a:lnTo>
                <a:lnTo>
                  <a:pt x="15152" y="8357"/>
                </a:lnTo>
                <a:close/>
              </a:path>
              <a:path fill="darkenLess" w="21600" h="21867">
                <a:moveTo>
                  <a:pt x="9877" y="14433"/>
                </a:moveTo>
                <a:lnTo>
                  <a:pt x="11723" y="14433"/>
                </a:lnTo>
                <a:lnTo>
                  <a:pt x="11723" y="18123"/>
                </a:lnTo>
                <a:lnTo>
                  <a:pt x="16109" y="18123"/>
                </a:lnTo>
                <a:lnTo>
                  <a:pt x="16109" y="10934"/>
                </a:lnTo>
                <a:lnTo>
                  <a:pt x="5491" y="10934"/>
                </a:lnTo>
                <a:lnTo>
                  <a:pt x="5491" y="18123"/>
                </a:lnTo>
                <a:lnTo>
                  <a:pt x="9877" y="18123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1"/>
          <p:cNvSpPr/>
          <p:nvPr/>
        </p:nvSpPr>
        <p:spPr>
          <a:xfrm>
            <a:off x="45720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  <a:ea typeface="DejaVu Sans"/>
              </a:rPr>
              <a:t>Веселые задач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2"/>
          <p:cNvSpPr/>
          <p:nvPr/>
        </p:nvSpPr>
        <p:spPr>
          <a:xfrm>
            <a:off x="304920" y="1143000"/>
            <a:ext cx="8610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Три товарища – Аркаша, Дима и Вова – пошли в лес за грибами, причем каждый из них со своей сестрой. Девочек зовут Галя, Лена и Оля. Назовите имя сестры каждого из мальчиков, если известно, что ни один из них не помогал своей сестре и что Дима несколько грибов положил в корзину Гали, а Аркаша – в корзинки Гали и О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Когда Аня, Женя и Нина спросили, какие им поставили оценки за контрольную работу по математике, учительница ответила: “Попробуйте догадаться сами, если я скажу, что в вашем классе двоек нет, а у вас троих оценки различные; причем у Ани – не 3, у Нины – не 5 и не 3”. Какую оценку получила каждая из учениц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1"/>
          <p:cNvSpPr/>
          <p:nvPr/>
        </p:nvSpPr>
        <p:spPr>
          <a:xfrm>
            <a:off x="45720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  <a:ea typeface="DejaVu Sans"/>
              </a:rPr>
              <a:t>Веселые задач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2"/>
          <p:cNvSpPr/>
          <p:nvPr/>
        </p:nvSpPr>
        <p:spPr>
          <a:xfrm>
            <a:off x="304920" y="114300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DejaVu San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 Коля, Боря, Вова и Юра заняли первые четыре места в соревновании. На вопрос, какие места они заняли, трое из них ответили: Коля – ни первое, ни четвертое; Боря – второе; Вова не был последним. Какое место занял каждый мальчик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В соревнованиях по гимнастике Аня, Вера, Галя и Наташа заняли первые четыре места. Определите, кто какое место занял, если известно, что Галя вторая, Наташа хотя и не стала победителем, но в призеры попала, а Вера проиграла Ан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Управляющая кнопка: домой 3"/>
          <p:cNvSpPr/>
          <p:nvPr/>
        </p:nvSpPr>
        <p:spPr>
          <a:xfrm>
            <a:off x="8429760" y="6286680"/>
            <a:ext cx="714240" cy="57132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486920" cy="9399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AutoShape 11"/>
          <p:cNvSpPr/>
          <p:nvPr/>
        </p:nvSpPr>
        <p:spPr>
          <a:xfrm>
            <a:off x="357120" y="642960"/>
            <a:ext cx="285840" cy="21420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5857920" y="1357200"/>
          <a:ext cx="2857320" cy="271476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5920"/>
                <a:gridCol w="476280"/>
              </a:tblGrid>
              <a:tr h="45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8" name="AutoShape 14"/>
          <p:cNvSpPr/>
          <p:nvPr/>
        </p:nvSpPr>
        <p:spPr>
          <a:xfrm>
            <a:off x="8429760" y="1428840"/>
            <a:ext cx="177840" cy="16992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AutoShape 13"/>
          <p:cNvSpPr/>
          <p:nvPr/>
        </p:nvSpPr>
        <p:spPr>
          <a:xfrm>
            <a:off x="6429240" y="2786040"/>
            <a:ext cx="270000" cy="193680"/>
          </a:xfrm>
          <a:prstGeom prst="flowChartPredefinedProcess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TextBox 18"/>
          <p:cNvSpPr/>
          <p:nvPr/>
        </p:nvSpPr>
        <p:spPr>
          <a:xfrm>
            <a:off x="0" y="928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бот собирается в гости.  По пути он хочет купить подар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AutoShape 13"/>
          <p:cNvSpPr/>
          <p:nvPr/>
        </p:nvSpPr>
        <p:spPr>
          <a:xfrm>
            <a:off x="8001000" y="714240"/>
            <a:ext cx="571680" cy="285840"/>
          </a:xfrm>
          <a:prstGeom prst="flowChartPredefinedProcess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Box 20"/>
          <p:cNvSpPr/>
          <p:nvPr/>
        </p:nvSpPr>
        <p:spPr>
          <a:xfrm>
            <a:off x="0" y="1428840"/>
            <a:ext cx="57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он не знает дороги. Чтобы помочь роботу нужно найти такую клетку, выйдя из которой, робот полностью выполнил свой алгоритм, забрал подарок и приехал в нужное место, но при этом не разбил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горитм робо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TextBox 11"/>
          <p:cNvSpPr/>
          <p:nvPr/>
        </p:nvSpPr>
        <p:spPr>
          <a:xfrm>
            <a:off x="0" y="400068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бот едет влево, пока слева свободн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ем едет вверх, пока сверху свободн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лее двигается вправо, пока свободно сниз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том снова вверх, пока свободно слев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Если робот встречает преграду, но по условию алгоритма ему можно двигаться дальше, то он разбивается. Алгоритм можно выполнять только в этом порядке, по окончании заново он не начинаетс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1"/>
          <p:cNvSpPr/>
          <p:nvPr/>
        </p:nvSpPr>
        <p:spPr>
          <a:xfrm>
            <a:off x="0" y="948960"/>
            <a:ext cx="4929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Робот Х ходит вправо, влево, вверх, вниз по одной клет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Робот Х находиться в точке А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Где окажется Робот Х после выполнения команд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3 шага вправо пот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4 шага вниз пот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1 шаг вправо пот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2 шага вверх пот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2 шага влев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5000760" y="1000080"/>
          <a:ext cx="3214440" cy="2928960"/>
        </p:xfrm>
        <a:graphic>
          <a:graphicData uri="http://schemas.openxmlformats.org/drawingml/2006/table">
            <a:tbl>
              <a:tblPr/>
              <a:tblGrid>
                <a:gridCol w="458640"/>
                <a:gridCol w="458640"/>
                <a:gridCol w="459000"/>
                <a:gridCol w="460440"/>
                <a:gridCol w="458640"/>
                <a:gridCol w="458640"/>
                <a:gridCol w="460440"/>
              </a:tblGrid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</a:tr>
              <a:tr h="40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</a:tr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b4a76"/>
                    </a:solidFill>
                  </a:tcPr>
                </a:tc>
              </a:tr>
            </a:tbl>
          </a:graphicData>
        </a:graphic>
      </p:graphicFrame>
      <p:sp>
        <p:nvSpPr>
          <p:cNvPr id="656" name="Управляющая кнопка: домой 3"/>
          <p:cNvSpPr/>
          <p:nvPr/>
        </p:nvSpPr>
        <p:spPr>
          <a:xfrm>
            <a:off x="8358120" y="6215040"/>
            <a:ext cx="785880" cy="642960"/>
          </a:xfrm>
          <a:custGeom>
            <a:avLst/>
            <a:gdLst>
              <a:gd name="textAreaLeft" fmla="*/ 41400 w 785880"/>
              <a:gd name="textAreaRight" fmla="*/ 744480 w 7858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6399" h="21600">
                <a:moveTo>
                  <a:pt x="0" y="0"/>
                </a:moveTo>
                <a:lnTo>
                  <a:pt x="26399" y="0"/>
                </a:lnTo>
                <a:lnTo>
                  <a:pt x="26399" y="21600"/>
                </a:lnTo>
                <a:lnTo>
                  <a:pt x="0" y="21600"/>
                </a:lnTo>
                <a:close/>
              </a:path>
              <a:path fill="lightenLess" w="26399" h="21600">
                <a:moveTo>
                  <a:pt x="0" y="0"/>
                </a:moveTo>
                <a:lnTo>
                  <a:pt x="26399" y="0"/>
                </a:lnTo>
                <a:lnTo>
                  <a:pt x="24999" y="1400"/>
                </a:lnTo>
                <a:lnTo>
                  <a:pt x="1400" y="1400"/>
                </a:lnTo>
                <a:close/>
              </a:path>
              <a:path fill="darken" w="26399" h="21600">
                <a:moveTo>
                  <a:pt x="26399" y="0"/>
                </a:moveTo>
                <a:lnTo>
                  <a:pt x="26399" y="21600"/>
                </a:lnTo>
                <a:lnTo>
                  <a:pt x="24999" y="20200"/>
                </a:lnTo>
                <a:lnTo>
                  <a:pt x="24999" y="1400"/>
                </a:lnTo>
                <a:close/>
              </a:path>
              <a:path fill="darkenLess" w="26399" h="21600">
                <a:moveTo>
                  <a:pt x="26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9" y="20200"/>
                </a:lnTo>
                <a:close/>
              </a:path>
              <a:path fill="lighten" w="26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9" h="21600">
                <a:moveTo>
                  <a:pt x="13199" y="3837"/>
                </a:moveTo>
                <a:lnTo>
                  <a:pt x="15776" y="6448"/>
                </a:lnTo>
                <a:lnTo>
                  <a:pt x="15776" y="4707"/>
                </a:lnTo>
                <a:lnTo>
                  <a:pt x="17551" y="4707"/>
                </a:lnTo>
                <a:lnTo>
                  <a:pt x="17551" y="8224"/>
                </a:lnTo>
                <a:lnTo>
                  <a:pt x="20162" y="10800"/>
                </a:lnTo>
                <a:lnTo>
                  <a:pt x="18509" y="10800"/>
                </a:lnTo>
                <a:lnTo>
                  <a:pt x="18509" y="17989"/>
                </a:lnTo>
                <a:lnTo>
                  <a:pt x="7890" y="17989"/>
                </a:lnTo>
                <a:lnTo>
                  <a:pt x="7890" y="10800"/>
                </a:lnTo>
                <a:lnTo>
                  <a:pt x="6236" y="10800"/>
                </a:lnTo>
                <a:close/>
              </a:path>
              <a:path fill="darkenLess" w="26399" h="21600">
                <a:moveTo>
                  <a:pt x="15776" y="6448"/>
                </a:moveTo>
                <a:lnTo>
                  <a:pt x="15776" y="4707"/>
                </a:lnTo>
                <a:lnTo>
                  <a:pt x="17551" y="4707"/>
                </a:lnTo>
                <a:lnTo>
                  <a:pt x="17551" y="8224"/>
                </a:lnTo>
                <a:close/>
              </a:path>
              <a:path fill="darkenLess" w="26399" h="21600">
                <a:moveTo>
                  <a:pt x="12277" y="14299"/>
                </a:moveTo>
                <a:lnTo>
                  <a:pt x="14122" y="14299"/>
                </a:lnTo>
                <a:lnTo>
                  <a:pt x="14122" y="17989"/>
                </a:lnTo>
                <a:lnTo>
                  <a:pt x="18509" y="17989"/>
                </a:lnTo>
                <a:lnTo>
                  <a:pt x="18509" y="10800"/>
                </a:lnTo>
                <a:lnTo>
                  <a:pt x="7890" y="10800"/>
                </a:lnTo>
                <a:lnTo>
                  <a:pt x="7890" y="17989"/>
                </a:lnTo>
                <a:lnTo>
                  <a:pt x="12277" y="1798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7486920" cy="774720"/>
          </a:xfrm>
          <a:prstGeom prst="rect">
            <a:avLst/>
          </a:prstGeom>
          <a:ln w="0">
            <a:noFill/>
          </a:ln>
        </p:spPr>
      </p:pic>
      <p:sp>
        <p:nvSpPr>
          <p:cNvPr id="658" name="TextBox 2"/>
          <p:cNvSpPr/>
          <p:nvPr/>
        </p:nvSpPr>
        <p:spPr>
          <a:xfrm>
            <a:off x="928800" y="1857240"/>
            <a:ext cx="7572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142920" y="101232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. Кузнечик стоит на координатной прямой в точке с координатой 0. Кузнечик может выполнять только 2 команды:«вправо на 7» и «влево на 5». Запишите последовательность из этих команд для кузнечика, которая позволит ему оказаться в точке с координатой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457200" y="69372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  <a:ea typeface="DejaVu Sans"/>
              </a:rPr>
              <a:t>«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DejaVu Sans"/>
              </a:rPr>
              <a:t>Возмутитель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  <a:ea typeface="DejaVu San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DejaVu Sans"/>
              </a:rPr>
              <a:t>спокойствия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  <a:ea typeface="DejaVu San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2133720" y="2133720"/>
            <a:ext cx="7010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Звуковой сигнал на компьютер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Антивирусная программ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Компьютерный виру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Line 4"/>
          <p:cNvSpPr/>
          <p:nvPr/>
        </p:nvSpPr>
        <p:spPr>
          <a:xfrm>
            <a:off x="2819520" y="4419720"/>
            <a:ext cx="4038480" cy="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7" name="Рисунок 4" descr="0_19578_e29936a9_S.gif"/>
          <p:cNvPicPr/>
          <p:nvPr/>
        </p:nvPicPr>
        <p:blipFill>
          <a:blip r:embed="rId1"/>
          <a:stretch/>
        </p:blipFill>
        <p:spPr>
          <a:xfrm>
            <a:off x="7643880" y="514368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Прямоугольник 2"/>
          <p:cNvSpPr/>
          <p:nvPr/>
        </p:nvSpPr>
        <p:spPr>
          <a:xfrm>
            <a:off x="428760" y="714240"/>
            <a:ext cx="7215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Кузнечик стоит на координатной прямой в точке с координатой 0. Кузнечик может выполнять только две команды: «ВПРАВО НА 7» и «ВЛЕВО НА 3». Запишите последовательность из этих команд для кузнечика, которая позволит ему оказаться в точке с координатой 1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РАВО НА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РАВО НА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РАВО НА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РАВО НА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ЕВО НА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ЕВО НА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ЕВО НА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Управляющая кнопка: домой 2"/>
          <p:cNvSpPr/>
          <p:nvPr/>
        </p:nvSpPr>
        <p:spPr>
          <a:xfrm>
            <a:off x="835812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3837"/>
                </a:moveTo>
                <a:lnTo>
                  <a:pt x="14730" y="6448"/>
                </a:ln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lnTo>
                  <a:pt x="19116" y="10800"/>
                </a:lnTo>
                <a:lnTo>
                  <a:pt x="17463" y="10800"/>
                </a:lnTo>
                <a:lnTo>
                  <a:pt x="17463" y="17989"/>
                </a:lnTo>
                <a:lnTo>
                  <a:pt x="6844" y="17989"/>
                </a:lnTo>
                <a:lnTo>
                  <a:pt x="6844" y="10800"/>
                </a:lnTo>
                <a:lnTo>
                  <a:pt x="5190" y="10800"/>
                </a:lnTo>
                <a:close/>
              </a:path>
              <a:path fill="darkenLess" w="24307" h="21600">
                <a:moveTo>
                  <a:pt x="14730" y="6448"/>
                </a:move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close/>
              </a:path>
              <a:path fill="darkenLess" w="24307" h="21600">
                <a:moveTo>
                  <a:pt x="11231" y="14299"/>
                </a:moveTo>
                <a:lnTo>
                  <a:pt x="13076" y="14299"/>
                </a:lnTo>
                <a:lnTo>
                  <a:pt x="13076" y="17989"/>
                </a:lnTo>
                <a:lnTo>
                  <a:pt x="17463" y="17989"/>
                </a:lnTo>
                <a:lnTo>
                  <a:pt x="17463" y="10800"/>
                </a:lnTo>
                <a:lnTo>
                  <a:pt x="6844" y="10800"/>
                </a:lnTo>
                <a:lnTo>
                  <a:pt x="6844" y="17989"/>
                </a:lnTo>
                <a:lnTo>
                  <a:pt x="11231" y="1798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1"/>
          <p:cNvSpPr txBox="1"/>
          <p:nvPr/>
        </p:nvSpPr>
        <p:spPr>
          <a:xfrm rot="180000">
            <a:off x="609480" y="1142640"/>
            <a:ext cx="81536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6271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0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0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0" y="3243240"/>
            <a:ext cx="4343400" cy="361476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3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2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1"/>
          <p:cNvSpPr/>
          <p:nvPr/>
        </p:nvSpPr>
        <p:spPr>
          <a:xfrm>
            <a:off x="457200" y="69372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  <a:ea typeface="DejaVu Sans"/>
              </a:rPr>
              <a:t>«А все-таки она вертится!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2"/>
          <p:cNvSpPr/>
          <p:nvPr/>
        </p:nvSpPr>
        <p:spPr>
          <a:xfrm>
            <a:off x="3962520" y="2743200"/>
            <a:ext cx="4724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Диск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Мыш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Системная ши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4648320" y="3886200"/>
            <a:ext cx="1600200" cy="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1" name="Рисунок 4" descr="11206.gif"/>
          <p:cNvPicPr/>
          <p:nvPr/>
        </p:nvPicPr>
        <p:blipFill>
          <a:blip r:embed="rId1"/>
          <a:stretch/>
        </p:blipFill>
        <p:spPr>
          <a:xfrm>
            <a:off x="428760" y="4729320"/>
            <a:ext cx="128592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  <a:ea typeface="DejaVu Sans"/>
              </a:rPr>
              <a:t>«Ни дня без строчки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3886200" y="2514600"/>
            <a:ext cx="44956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Текстовый фай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Лазерный принт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Скан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4"/>
          <p:cNvSpPr/>
          <p:nvPr/>
        </p:nvSpPr>
        <p:spPr>
          <a:xfrm>
            <a:off x="4648320" y="3657600"/>
            <a:ext cx="3200400" cy="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Рисунок 4" descr="860721786.gif"/>
          <p:cNvPicPr/>
          <p:nvPr/>
        </p:nvPicPr>
        <p:blipFill>
          <a:blip r:embed="rId1"/>
          <a:stretch/>
        </p:blipFill>
        <p:spPr>
          <a:xfrm>
            <a:off x="285840" y="5643720"/>
            <a:ext cx="1071360" cy="9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  <a:ea typeface="DejaVu Sans"/>
              </a:rPr>
              <a:t>«По образу и подобию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2133720" y="2133720"/>
            <a:ext cx="7010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Предыдущий вариант фай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Локальная переменн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Копия фай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4"/>
          <p:cNvSpPr/>
          <p:nvPr/>
        </p:nvSpPr>
        <p:spPr>
          <a:xfrm>
            <a:off x="2819520" y="4419720"/>
            <a:ext cx="2514600" cy="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Рисунок 4" descr="IdeaLightbulb-large.gif"/>
          <p:cNvPicPr/>
          <p:nvPr/>
        </p:nvPicPr>
        <p:blipFill>
          <a:blip r:embed="rId1"/>
          <a:stretch/>
        </p:blipFill>
        <p:spPr>
          <a:xfrm>
            <a:off x="7500960" y="4214880"/>
            <a:ext cx="1095480" cy="17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  <a:ea typeface="DejaVu Sans"/>
              </a:rPr>
              <a:t>«Три кит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2133720" y="2133720"/>
            <a:ext cx="7010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0, 1 и неопределен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Паскаль, Бейсик и С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8040">
              <a:spcBef>
                <a:spcPts val="799"/>
              </a:spcBef>
              <a:buClr>
                <a:srgbClr val="ffcc66"/>
              </a:buClr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DejaVu Sans"/>
              </a:rPr>
              <a:t>Системный блок, клавиатура и монито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Line 5"/>
          <p:cNvSpPr/>
          <p:nvPr/>
        </p:nvSpPr>
        <p:spPr>
          <a:xfrm>
            <a:off x="2819520" y="4419720"/>
            <a:ext cx="5790960" cy="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Line 6"/>
          <p:cNvSpPr/>
          <p:nvPr/>
        </p:nvSpPr>
        <p:spPr>
          <a:xfrm>
            <a:off x="2895480" y="4952880"/>
            <a:ext cx="152424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Управляющая кнопка: домой 7"/>
          <p:cNvSpPr/>
          <p:nvPr/>
        </p:nvSpPr>
        <p:spPr>
          <a:xfrm>
            <a:off x="8286840" y="6286680"/>
            <a:ext cx="606240" cy="571320"/>
          </a:xfrm>
          <a:custGeom>
            <a:avLst/>
            <a:gdLst>
              <a:gd name="textAreaLeft" fmla="*/ 36720 w 606240"/>
              <a:gd name="textAreaRight" fmla="*/ 569520 w 6062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919" h="21600">
                <a:moveTo>
                  <a:pt x="0" y="0"/>
                </a:moveTo>
                <a:lnTo>
                  <a:pt x="22919" y="0"/>
                </a:lnTo>
                <a:lnTo>
                  <a:pt x="22919" y="21600"/>
                </a:lnTo>
                <a:lnTo>
                  <a:pt x="0" y="21600"/>
                </a:lnTo>
                <a:close/>
              </a:path>
              <a:path fill="lightenLess" w="22919" h="21600">
                <a:moveTo>
                  <a:pt x="0" y="0"/>
                </a:moveTo>
                <a:lnTo>
                  <a:pt x="22919" y="0"/>
                </a:lnTo>
                <a:lnTo>
                  <a:pt x="21519" y="1400"/>
                </a:lnTo>
                <a:lnTo>
                  <a:pt x="1400" y="1400"/>
                </a:lnTo>
                <a:close/>
              </a:path>
              <a:path fill="darken" w="22919" h="21600">
                <a:moveTo>
                  <a:pt x="22919" y="0"/>
                </a:moveTo>
                <a:lnTo>
                  <a:pt x="22919" y="21600"/>
                </a:lnTo>
                <a:lnTo>
                  <a:pt x="21519" y="20200"/>
                </a:lnTo>
                <a:lnTo>
                  <a:pt x="21519" y="1400"/>
                </a:lnTo>
                <a:close/>
              </a:path>
              <a:path fill="darkenLess" w="22919" h="21600">
                <a:moveTo>
                  <a:pt x="22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19" y="20200"/>
                </a:lnTo>
                <a:close/>
              </a:path>
              <a:path fill="lighten" w="22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19" h="21600">
                <a:moveTo>
                  <a:pt x="11460" y="3837"/>
                </a:moveTo>
                <a:lnTo>
                  <a:pt x="14036" y="6448"/>
                </a:lnTo>
                <a:lnTo>
                  <a:pt x="14036" y="4707"/>
                </a:lnTo>
                <a:lnTo>
                  <a:pt x="15812" y="4707"/>
                </a:lnTo>
                <a:lnTo>
                  <a:pt x="15812" y="8224"/>
                </a:lnTo>
                <a:lnTo>
                  <a:pt x="18423" y="10800"/>
                </a:lnTo>
                <a:lnTo>
                  <a:pt x="16769" y="10800"/>
                </a:lnTo>
                <a:lnTo>
                  <a:pt x="16769" y="17989"/>
                </a:lnTo>
                <a:lnTo>
                  <a:pt x="6150" y="17989"/>
                </a:lnTo>
                <a:lnTo>
                  <a:pt x="6150" y="10800"/>
                </a:lnTo>
                <a:lnTo>
                  <a:pt x="4497" y="10800"/>
                </a:lnTo>
                <a:close/>
              </a:path>
              <a:path fill="darkenLess" w="22919" h="21600">
                <a:moveTo>
                  <a:pt x="14036" y="6448"/>
                </a:moveTo>
                <a:lnTo>
                  <a:pt x="14036" y="4707"/>
                </a:lnTo>
                <a:lnTo>
                  <a:pt x="15812" y="4707"/>
                </a:lnTo>
                <a:lnTo>
                  <a:pt x="15812" y="8224"/>
                </a:lnTo>
                <a:close/>
              </a:path>
              <a:path fill="darkenLess" w="22919" h="21600">
                <a:moveTo>
                  <a:pt x="10537" y="14299"/>
                </a:moveTo>
                <a:lnTo>
                  <a:pt x="12382" y="14299"/>
                </a:lnTo>
                <a:lnTo>
                  <a:pt x="12382" y="17989"/>
                </a:lnTo>
                <a:lnTo>
                  <a:pt x="16769" y="17989"/>
                </a:lnTo>
                <a:lnTo>
                  <a:pt x="16769" y="10800"/>
                </a:lnTo>
                <a:lnTo>
                  <a:pt x="6150" y="10800"/>
                </a:lnTo>
                <a:lnTo>
                  <a:pt x="6150" y="17989"/>
                </a:lnTo>
                <a:lnTo>
                  <a:pt x="10537" y="1798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5" name="Рисунок 6" descr="eTMLXeETn.gif"/>
          <p:cNvPicPr/>
          <p:nvPr/>
        </p:nvPicPr>
        <p:blipFill>
          <a:blip r:embed="rId1"/>
          <a:stretch/>
        </p:blipFill>
        <p:spPr>
          <a:xfrm>
            <a:off x="285840" y="285840"/>
            <a:ext cx="123804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WordArt 1"/>
          <p:cNvSpPr txBox="1"/>
          <p:nvPr/>
        </p:nvSpPr>
        <p:spPr>
          <a:xfrm>
            <a:off x="380880" y="990720"/>
            <a:ext cx="8229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Ребу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9b</dc:creator>
  <dc:description/>
  <dc:language>en-US</dc:language>
  <cp:lastModifiedBy>admin</cp:lastModifiedBy>
  <dcterms:modified xsi:type="dcterms:W3CDTF">2016-12-05T03:41:1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